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CBEF-786B-4989-ADE5-FD1D91D6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6F1C-F7B0-4747-BD03-436F0ACE1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71A7-1965-4660-94A9-01DD6D3EA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6842-398E-425F-AA94-D9D83972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0972-3B49-4838-8536-45BD0029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D23D-8F14-449C-972A-A4FCD982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FA45-529F-49CA-84CC-C1BE8C19A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156C-849C-4F1A-ABFE-11E5C638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E460-4202-4B7F-ADE1-739D999B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115-D900-4F0E-B680-A76BEFE9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403704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181-47B5-4FF9-A603-785D3F06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76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5DD-ECE4-46E1-95C0-9AB3B313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040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324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040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324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296-5321-4ABF-8297-135B983D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11BA-834E-4C88-AE6A-E702B6B4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854A-60D1-46A8-AF24-7369A5C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9713-CD51-4B12-9233-D7365275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888-E304-45A1-8920-811D9DC7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E6E9-F0EC-4936-B822-1C7CA16F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456840"/>
            <a:ext cx="6248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3834-38B7-4CC1-AEF4-B7BF24B5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3B22-FAA6-40EA-92AB-1D84A43D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D9B-95D7-4D1C-9B5B-14284549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76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F71E-4985-4636-95CE-F86EB550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7705-CAD0-4EA6-BEB3-87C535F0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403704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442A-59AB-4BD8-B35C-D24B6988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76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893D-1A52-4154-B007-EA09B596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040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3240" y="175212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040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3240" y="4037040"/>
            <a:ext cx="20116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C1BD-05B5-4A26-8502-6399DB6C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37A-8A21-40AF-BAE6-9E19ED44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74F-2902-4FCA-A242-F326616E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893-BDDD-4489-A7E3-E0323B18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456840"/>
            <a:ext cx="6248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EA5-AC84-404C-99C9-D730CB7D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7D4-C610-42A7-B031-9FA84AE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760" y="403704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ECF-6CA8-49B4-B7FC-87AED62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760" y="1752120"/>
            <a:ext cx="30488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4037040"/>
            <a:ext cx="62481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DD2-17AB-4AB9-AE62-2BDA2A7A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95520" y="6244920"/>
            <a:ext cx="162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2BA6-77F2-4713-BECD-9C40E13943C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095880" y="6244920"/>
            <a:ext cx="163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BD3A-B9EB-480B-9B71-0A89E37008C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sychological Bases for  Curriculum Decision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dividual Differen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nciples of Learn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havioris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umanis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lighting the Rewards of Learn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cial and Cultural Force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ditional Curriculu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urriculum Challeng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fluen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litical Pressu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mmediate Commun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QUESTIONS THAT TEACHERS NEED TO AS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ES THE CONTENT RELAT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CAN I ORGANIZE AND PRESEN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N I ORGANIZE IN A LOGICAL SEQUENC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CAN I RELATE CONTENT TO PUPILS’ EXPERIENCE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UBJECT MATTER AND ITS ROLE IN DECISION MAKING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TO TEA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EN TO TEA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ED TO TRY HARD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UARDING AGAINST PATCHWOR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RITERIA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LECTING CONTE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LANCE OF SURVEY AND DEPT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ROPRIATEN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URA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 OF FACTS AND MAIN CONCEP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LLUMINATING WITH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RGANIZ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ROAD FIEL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RE PROGRAM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IFE SITU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UPILS’ EXPERI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PECIAL PROBLEM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TINU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LA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EW VERSION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UBJECT MATTE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W” SE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LCOHOL AND DRUG ABU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3:24:38Z</dcterms:created>
  <dc:creator>allen d Eury</dc:creator>
  <dc:description/>
  <dc:language>en-US</dc:language>
  <cp:lastModifiedBy>User</cp:lastModifiedBy>
  <dcterms:modified xsi:type="dcterms:W3CDTF">2012-08-22T18:13:44Z</dcterms:modified>
  <cp:revision>3</cp:revision>
  <dc:subject/>
  <dc:title>Psychological Bases for  Curriculum Decisions</dc:title>
</cp:coreProperties>
</file>